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EB03-7E19-4B17-90AA-F700C4B2A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IS MON AM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2D4-36FC-47DF-A7AE-149144A733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iramida de sticl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ste punctul principal de acces în muzeu, principala axa de circulatie in muze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0A3-1053-4001-BD82-C68F8A821E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2A72-BE05-4C98-AA88-A3E8E0AE10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ippe Morel,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'art de la Renaissance entre science et magi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 Rennes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Pierre Chaunu,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Civilizaţia europeană în secolul luminilor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Buc., 19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Daniel Roche,</a:t>
            </a: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La France des Lumiere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Paris,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Georges Duby,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 Histoire de la France des origines a nos jour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Larousee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9DA-A277-4F51-9E60-8FF7FA39CF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UM INFLUENTEAZA CUNOASTEREA ISTORIEI VIATA OAMENILO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62F-31F4-4E98-BC9D-4260AD929E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noasterea istoriei, obiceiurilor si traditiile unei tari ne ajuta sa ne imbogatim cunostintele pe care le putem folosi apoi in viata cotidi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716F-2FA7-436A-8486-2ACA9153AF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4E2-B2CB-4605-93EC-1A25E9C17F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ul Eiffel a fost construit intre 1887-1889, masoara 324 m si isi schimba inaltimea de cateva ori pe an, din cauza dilatarii aliajului. Necesita 70 tone de vopsea o data la 7 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43ED-134D-44D1-95F9-8DB700899B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Turn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una dintre principalele destinaţii turistice ale Parisului şi lumii, cu mai mult de 5,5 milioane de vizitatori anual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iecare ora fixa turnul se lumineaza pentru 10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9CAB-077B-4661-89C4-A1296DD813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 Bouquinistes de la Se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5C8E-0A98-4992-A397-CC18B5B848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ailles,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el mai renumit palat din Franta, 350 de ani de istor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0197-C257-40E2-9830-30297F1D5D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vrul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cel mai mare muzeu de istorie şi artă din Franţ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daposteste cele mai importante opere de arta din 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599B-F26C-4AEF-AE21-5E6311170C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AE5-0E18-4491-B38E-DC8798BD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A56-8329-4FDA-8FE7-35C59E30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CE2-314C-4E26-B508-F4025D62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A43-E9A9-4536-94DE-63B399C1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95DE-FCAD-49CB-9B3C-85866F9A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F975C-3B25-45C8-B3C8-0945502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0FA54-BFA2-46E3-9DE9-17E6A0E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45B3C-E45D-4AF1-B784-B55DEEF0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1581-0E00-46BA-ABC9-89D80CBE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AF7D-8CEA-46E2-B90F-4018274C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D0C83-77B4-40AE-9FDC-20D9FA7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328-A9E1-4DE7-8FFB-BDC3640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0114-1511-424E-A593-FA90DB4F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1D27C-CB5B-4815-A55A-11EB9C3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EFA3F-B852-41A1-8C5C-2968D56E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AAB7-48CD-49CB-AB1C-934F8049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80FA2-3B3C-48AA-A424-50F816D4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D41-E4A7-4487-ACA5-AEE790D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F4D-56AB-4857-B64C-993190FD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5D6-D002-46A2-B53E-5914415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DCC-7A12-4A80-BF08-D6E8D1E9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388-4196-41A4-8104-B8350E55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FE9-78ED-41BE-A1C6-EC8CB9C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7CD-F840-4EDF-82A3-433E1E43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A2F-866C-473B-8085-34E45760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F7D-9CEB-417A-AFF3-1EACB6CC10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arc-de-triomphe[1]"/>
          <p:cNvPicPr/>
          <p:nvPr/>
        </p:nvPicPr>
        <p:blipFill>
          <a:blip r:embed="rId1"/>
          <a:stretch/>
        </p:blipFill>
        <p:spPr>
          <a:xfrm>
            <a:off x="-942840" y="-447840"/>
            <a:ext cx="11991960" cy="7753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 rot="20284200">
            <a:off x="1779840" y="314964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Rockwell Extra Bold"/>
              </a:rPr>
              <a:t>PARIS MON AMOU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Louvre-pyramid-daytim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38088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4d"/>
                </a:solidFill>
                <a:latin typeface="Tahoma"/>
              </a:rPr>
              <a:t>Piramida de sticlă</a:t>
            </a: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 este punctul principal de acces în muzeu, principala axa de circulatie in muze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sacre_coeur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Rockwell Extra Bold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ontmar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place de la concor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343400" y="533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Philippe Morel, </a:t>
            </a:r>
            <a:r>
              <a:rPr b="0" i="1" lang="fr-FR" sz="1800" spc="-1" strike="noStrike">
                <a:solidFill>
                  <a:srgbClr val="0d030c"/>
                </a:solidFill>
                <a:latin typeface="Tahoma"/>
              </a:rPr>
              <a:t>L'art de la Renaissance entre science et magie</a:t>
            </a: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, Rennes, 200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Pierre Chaunu,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Civilizaţia europeană în secolul luminilor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Buc., 198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Daniel Roche,</a:t>
            </a:r>
            <a:r>
              <a:rPr b="1" lang="ro-RO" sz="1800" spc="-1" strike="noStrike">
                <a:solidFill>
                  <a:srgbClr val="0d030c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La France des Lumiere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Paris,199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Georges Duby,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 Histoire de la France des origines a nos jour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Larousee,199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M INFLUENTEAZA CUNOASTEREA ISTORIEI VIATA OAMENILO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465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arc-triomphe-carrousel[1]"/>
          <p:cNvPicPr/>
          <p:nvPr/>
        </p:nvPicPr>
        <p:blipFill>
          <a:blip r:embed="rId1"/>
          <a:stretch/>
        </p:blipFill>
        <p:spPr>
          <a:xfrm>
            <a:off x="-1371600" y="-228600"/>
            <a:ext cx="1150632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 rot="20163600">
            <a:off x="650160" y="1742400"/>
            <a:ext cx="555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uhaus 93"/>
              </a:rPr>
              <a:t>CUM INFLUENTEAZA CUNOASTEREA ISTORIEI VIATA OAMENIL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grande-arche-pari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 rot="20273400">
            <a:off x="-734400" y="2116440"/>
            <a:ext cx="936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ladimir Script"/>
              </a:rPr>
              <a:t>Cunoasterea istoriei, obiceiurilor si traditiile unei tari ne ajuta sa ne imbogatim cunostintele pe care le putem folosi apoi in viata cotidi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RCHE031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7391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762120" y="45720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eiffel-tower-lb5[1]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28600" y="762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Turnul Eiffel a fost construit intre 1887-1889, </a:t>
            </a:r>
            <a:r>
              <a:rPr b="0" lang="it-IT" sz="2400" spc="-1" strike="noStrike">
                <a:solidFill>
                  <a:srgbClr val="ffffff"/>
                </a:solidFill>
                <a:latin typeface="Rockwell Condensed"/>
              </a:rPr>
              <a:t>in onoarea centenarului Revolutiei franceze, </a:t>
            </a: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masoara 324 m si isi schimba inaltimea de cateva ori pe an, din cauza dilatarii aliajului. Necesita 70 tone de vopsea o data la 7 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eiffel-tower-night-xd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 rot="20671800">
            <a:off x="317520" y="179856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Turn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este una dintre principalele destinaţii turistice ale Parisului şi lumii, cu mai mult de 5,5 milioane de vizitatori an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iecare ora fixa turnul se lumineaza pentru 10 minu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la place du ter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031720" y="59436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es Bouquinistes de la Se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louvre-museum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28600" y="5029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Versailles, </a:t>
            </a:r>
            <a:r>
              <a:rPr b="0" lang="it-IT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Cel mai renumit palat din Franta, 350 de ani de istor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louvre-pyrami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 rot="1291800">
            <a:off x="2705040" y="1386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vrul </a:t>
            </a:r>
            <a:r>
              <a:rPr b="0" lang="vi-VN" sz="2400" spc="-1" strike="noStrike">
                <a:solidFill>
                  <a:srgbClr val="ffffff"/>
                </a:solidFill>
                <a:latin typeface="Tahoma"/>
              </a:rPr>
              <a:t>este cel mai mare muzeu de istorie şi artă din Franţ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Adaposteste cele mai importante opere de arta din lu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34:49Z</dcterms:created>
  <dc:creator>sabin&amp;lumi</dc:creator>
  <dc:description/>
  <dc:language>en-US</dc:language>
  <cp:lastModifiedBy>mihai</cp:lastModifiedBy>
  <dcterms:modified xsi:type="dcterms:W3CDTF">2004-07-29T05:44:45Z</dcterms:modified>
  <cp:revision>17</cp:revision>
  <dc:subject/>
  <dc:title>Slide 1</dc:title>
</cp:coreProperties>
</file>